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361-3AA7-4BF7-B739-1AA1A1B8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CFE-4C16-43F1-83EE-2D68E940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F1D-9BFB-4DD0-9139-33E8A31D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DAE-BB98-46F4-B11B-54C6E5E9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DD49-2055-405C-A640-D95731C5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EE1D-9ADD-4628-A220-0C49F347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345D-D804-44D6-88F1-D994878C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E18A-3702-4BB6-8857-FB68FAB8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3852-7ED9-4B23-962F-272BB14F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9194-2B17-459C-8E6A-F53AE592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93D5-45DF-44DF-BDFA-365148F6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740-3DDF-4EFE-A9FC-D4250028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75C5-F4EA-4F31-A090-71D609F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7112-E9B3-42E3-A3A6-49D8FD1D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28E0-D84A-4DC9-BA6A-FF3EEF91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C64C-7E2C-4020-A4F8-B84FA84A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FA7E-DE47-4540-ADB1-C7862993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FBA-C64F-4306-BBAE-A0A66DA0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FA8-AAF4-48F8-B28E-18B46F65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812-AC97-4849-ACED-AAD73F24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2C5-C2E2-4750-95EF-826CB501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B8F-8415-44D8-B80E-18F9A13C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44C-9B85-4170-B63D-BD8C1D07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B51-4CE1-4019-9C0E-0B388FFE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89D7-E8D4-46D3-B8FA-E03941FDB91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689E-075F-4ABC-937E-B85B713B778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8680" y="99072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6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05740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4°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Incluem-se entre os bens da Uniã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 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I - os lagos e quaisquer correntes de água em terrenos de seu domínio, ou que banhem mais de um Estado, que sirvam de limite com outros países ou se estendam a território estrangeiro, as ilhas oceânicas, assim como as ilhas fluviais e lacustres nas zonas limítrofes com outros paíse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na Salett</cp:lastModifiedBy>
  <dcterms:modified xsi:type="dcterms:W3CDTF">2004-08-10T21:22:01Z</dcterms:modified>
  <cp:revision>74</cp:revision>
  <dc:subject/>
  <dc:title>Apresentação do PowerPoint</dc:title>
</cp:coreProperties>
</file>